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A66-7064-4FE8-92BB-301D26CD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0EF-9DCC-4B63-ACA1-595FAE2F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BD-E012-43A7-AEB1-C2AA73F5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567-CD8D-4E33-A1AD-C2750B7B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B8E-41EC-4911-ACE7-E936ADE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8B2-737F-49B0-8246-1E6CE310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DD0-D6B6-4D8B-9438-B6D3ED2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F5B-9242-469C-97C4-1A4C59A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E55-C5CF-4DFF-8556-012DCAF7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633-520D-48F4-9332-E842BAE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BC7-89DD-4D39-8219-39380D18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36D-D3C0-428C-945F-DEBA4FA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050-E860-427C-8A96-C3FF4DA36D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E3B9-B315-48E8-9515-8FEDB9E20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85840" y="1428840"/>
            <a:ext cx="857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5a9a"/>
                </a:solidFill>
                <a:latin typeface="Calibri"/>
                <a:ea typeface="Times New Roman"/>
              </a:rPr>
              <a:t>Об установлении на территории Кировской области на налоговый период 2023 – 2025 годов налоговых ставок для отдельных категорий налогоплательщиков, применяющих упрощенную систему налогооб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O:\Отдел прогнозирования\Жаворонкина\ФОН copy.tif"/>
          <p:cNvPicPr/>
          <p:nvPr/>
        </p:nvPicPr>
        <p:blipFill>
          <a:blip r:embed="rId1"/>
          <a:stretch/>
        </p:blipFill>
        <p:spPr>
          <a:xfrm>
            <a:off x="0" y="0"/>
            <a:ext cx="327672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Объект 4" descr=""/>
          <p:cNvPicPr/>
          <p:nvPr/>
        </p:nvPicPr>
        <p:blipFill>
          <a:blip r:embed="rId2"/>
          <a:stretch/>
        </p:blipFill>
        <p:spPr>
          <a:xfrm>
            <a:off x="7020000" y="6524640"/>
            <a:ext cx="2124000" cy="333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3071880" y="621504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  <a:ea typeface="Times New Roman"/>
              </a:rPr>
              <a:t>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2"/>
          <p:cNvSpPr/>
          <p:nvPr/>
        </p:nvSpPr>
        <p:spPr>
          <a:xfrm>
            <a:off x="2575080" y="3571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Действующие ст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1185840"/>
          <a:ext cx="8007120" cy="4815000"/>
        </p:xfrm>
        <a:graphic>
          <a:graphicData uri="http://schemas.openxmlformats.org/drawingml/2006/table">
            <a:tbl>
              <a:tblPr/>
              <a:tblGrid>
                <a:gridCol w="2338200"/>
                <a:gridCol w="1873440"/>
                <a:gridCol w="2232000"/>
                <a:gridCol w="15634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Категория получ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Переехавшие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Кировскую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% и 5% - 1 налоговый период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% и 7,5% - 2 последующих пери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2022- 2025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п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% и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Госаккредитация Минцифры РФ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90% доходов  от видов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2022-2024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9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первые зарегистрированные ИП, применяющие УСН и ПСН (производственники, социальная сфера, бытовые услуг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СЧ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15 челове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ельный размер доходов в соответствии с НК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2016-2024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A51-2E7F-46FF-AB5B-36468490694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-12600" y="0"/>
            <a:ext cx="239544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179280" y="131760"/>
            <a:ext cx="50508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85880" y="928800"/>
          <a:ext cx="7859520" cy="5348160"/>
        </p:xfrm>
        <a:graphic>
          <a:graphicData uri="http://schemas.openxmlformats.org/drawingml/2006/table">
            <a:tbl>
              <a:tblPr/>
              <a:tblGrid>
                <a:gridCol w="2300400"/>
                <a:gridCol w="1820520"/>
                <a:gridCol w="3738600"/>
              </a:tblGrid>
              <a:tr h="91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Категория получ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147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ывшие ЕНВ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% </a:t>
                      </a:r>
                      <a:r>
                        <a:rPr b="0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 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ССЧ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не мене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человек ИП / 4 человека Ю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ССЧ не менее 70%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ыдущего 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70% доходы от бывшего ЕНВ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8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ывшие ЕНВ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1% и 5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З/п на 1 работник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менее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1,75 МРОТ (2023 г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ССЧ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не мене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человек ИП / 4 человека Ю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ССЧ не менее 70%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ыдущего 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) 70% доходы от бывшего ЕНВ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-12600" y="0"/>
            <a:ext cx="239544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179280" y="131760"/>
            <a:ext cx="505080" cy="65232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803D-D8D8-4323-B190-797619E4B97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700360" y="2541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Times New Roman"/>
              </a:rPr>
              <a:t>Действующие ставки 2023-2025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71640" y="1079640"/>
          <a:ext cx="7851600" cy="4938480"/>
        </p:xfrm>
        <a:graphic>
          <a:graphicData uri="http://schemas.openxmlformats.org/drawingml/2006/table">
            <a:tbl>
              <a:tblPr/>
              <a:tblGrid>
                <a:gridCol w="3446280"/>
                <a:gridCol w="1532160"/>
                <a:gridCol w="2873160"/>
              </a:tblGrid>
              <a:tr h="91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Категория получ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18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НК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инотеатр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Х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рговля НХ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1% и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% доходы от указан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35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Невосстановившиеся отрасли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рговля изделиями из мех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тиниц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учные исслед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урагент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разование дошкольно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полнительное образов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рт и отд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% и 7,5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% доходы от указан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84C-ADCB-4F23-9914-15307D1D2CC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-12600" y="0"/>
            <a:ext cx="239544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179280" y="131760"/>
            <a:ext cx="505080" cy="652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700360" y="2541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Times New Roman"/>
              </a:rPr>
              <a:t>Действующие ставки 2023-2025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28800" y="928800"/>
          <a:ext cx="7758000" cy="5398920"/>
        </p:xfrm>
        <a:graphic>
          <a:graphicData uri="http://schemas.openxmlformats.org/drawingml/2006/table">
            <a:tbl>
              <a:tblPr/>
              <a:tblGrid>
                <a:gridCol w="2817720"/>
                <a:gridCol w="1636560"/>
                <a:gridCol w="3303720"/>
              </a:tblGrid>
              <a:tr h="90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Категория получ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  <a:ea typeface="Times New Roman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9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ественное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% и 7,5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СЧ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не мене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человек ИП /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4 человека Ю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3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рабатывающие производств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ОКВЭД 10-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% и 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70% дох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 указанных ОКВЭ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З/п на 1 работник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менее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2 МРО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ССЧ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не мене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человек ИП / 4 человека Ю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3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рабатывающие производств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ОКВЭД 10-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1% и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 70% доход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 указанных ОКВЭ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 З/п на 1 работник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менее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МРО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) ССЧ </a:t>
                      </a: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не мене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3 человек ИП / 4 человека Ю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435B-23A1-41D0-89B7-51F0E9C1A9B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-12600" y="0"/>
            <a:ext cx="2395440" cy="714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179280" y="131760"/>
            <a:ext cx="505080" cy="652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700360" y="2541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Times New Roman"/>
              </a:rPr>
              <a:t>Действующие ставки 2023-2025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4T12:47:22Z</dcterms:created>
  <dc:creator>user</dc:creator>
  <dc:description/>
  <dc:language>en-US</dc:language>
  <cp:lastModifiedBy>Пользователь</cp:lastModifiedBy>
  <cp:lastPrinted>2022-11-16T13:36:57Z</cp:lastPrinted>
  <dcterms:modified xsi:type="dcterms:W3CDTF">2023-02-16T11:48:19Z</dcterms:modified>
  <cp:revision>62</cp:revision>
  <dc:subject/>
  <dc:title>Слайд 1</dc:title>
</cp:coreProperties>
</file>